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60343"/>
        <c:axId val="84682522"/>
      </c:barChart>
      <c:catAx>
        <c:axId val="52760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82522"/>
        <c:crosses val="autoZero"/>
        <c:auto val="1"/>
        <c:lblAlgn val="ctr"/>
        <c:lblOffset val="100"/>
        <c:noMultiLvlLbl val="0"/>
      </c:catAx>
      <c:valAx>
        <c:axId val="84682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0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F54-2363-48B8-9A9A-500F08B2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CED-13DE-4C12-A3AE-462C074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5EE-3DCC-4FE9-88D5-983636F0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1EF-C09D-4663-A811-94BD4482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D6A-D04D-4878-96D8-A69A0F2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DFE-89FD-4927-8140-61A6075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BAE-B3D7-4B44-B13E-CA48D14E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A04-57D9-4569-8F7A-BBC3EC00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8C3-8272-4D14-B190-112DE07F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5A2-94E3-4490-AA7F-1D75620C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37C-0599-4877-8934-AF3FCEE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59F-158B-4A42-ADCB-3B2CEB4E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C0BF8-24D9-4FCA-95A4-64D10E888F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