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707942"/>
        <c:axId val="32958676"/>
      </c:barChart>
      <c:catAx>
        <c:axId val="557079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958676"/>
        <c:crosses val="autoZero"/>
        <c:auto val="1"/>
        <c:lblAlgn val="ctr"/>
        <c:lblOffset val="100"/>
        <c:noMultiLvlLbl val="0"/>
      </c:catAx>
      <c:valAx>
        <c:axId val="329586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7079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CD20-73FE-459B-8765-135BA7B34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9F48-1AFD-4A49-9079-A06CAA5FF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CFA8-C09A-43D8-AD48-50BFEC839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B785-1A6C-4C85-B7B2-8E078AC70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4EE7-177A-4595-BB7B-21A48E038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7F3C-FA10-4043-92BF-96900DEA6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F146-73FA-4BB7-8626-9EA033C53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AD40-C819-4D63-8541-B50FD79E6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9135-BBA5-4BE2-93FD-4A8F6684D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295D-B606-4EE2-9518-7B89828BC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ED09-D00B-4BB5-84EA-A7CD48A18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FE8E-4511-4759-8E74-05881E40D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0D51BC-93F4-477C-8C39-CEB8B52A229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