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80202"/>
        <c:axId val="79586926"/>
      </c:barChart>
      <c:catAx>
        <c:axId val="70980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86926"/>
        <c:crosses val="autoZero"/>
        <c:auto val="1"/>
        <c:lblAlgn val="ctr"/>
        <c:lblOffset val="100"/>
        <c:noMultiLvlLbl val="0"/>
      </c:catAx>
      <c:valAx>
        <c:axId val="79586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80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1F4-7048-4E87-9201-3BE55AE6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870-B0B0-4520-A3EE-717A1C76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65A-E51B-4883-A75E-1308682C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18D-64FB-47AE-9DC5-C72451AF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4A4-AD94-4B72-AB9D-07950246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244-DBBE-4703-81F1-BE56E35C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E09-5671-4880-8509-B798B2D1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ADF-C079-42F3-9430-B1C365F8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85C-1EB2-4BD5-88F6-D37667ED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ECC-8A02-41DC-BA38-E73AFC7D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90A-92AB-4602-B459-54B1D150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A2A-9301-45A7-9D9B-3F466161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71DA7-27E2-4991-AF17-2942D8C2C0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