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9770342"/>
        <c:axId val="64846000"/>
      </c:barChart>
      <c:catAx>
        <c:axId val="697703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846000"/>
        <c:crosses val="autoZero"/>
        <c:auto val="1"/>
        <c:lblAlgn val="ctr"/>
        <c:lblOffset val="100"/>
        <c:noMultiLvlLbl val="0"/>
      </c:catAx>
      <c:valAx>
        <c:axId val="6484600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703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83B6-94D6-4913-B4D3-E0839B4E2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4902-FFB9-4D36-A49A-342BBC8AB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48A8-37BC-4BDA-8C69-9777BFF06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C0D2-32E5-4AD6-A0D8-EB46EFC9E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BCEC-67B8-4884-95EB-D9EC28053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F3C2-5E5D-41DB-BD26-7088388C7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0C4D-B498-429E-84D4-0C5A8F4D1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81D6-B49D-4743-ACBA-D4D0A72E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8F140-FF1B-4ECD-A3F1-E3941577A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4F659-7BA5-466E-8048-CB280A20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3C23-EB78-446D-8098-F1BE6B93D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9A06-3458-40F1-A1FB-1E77F6E49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C0EAD5-E95E-4005-B39C-4E3FC059C3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