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07730"/>
        <c:axId val="81745344"/>
      </c:barChart>
      <c:catAx>
        <c:axId val="31607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5344"/>
        <c:crosses val="autoZero"/>
        <c:auto val="1"/>
        <c:lblAlgn val="ctr"/>
        <c:lblOffset val="100"/>
        <c:noMultiLvlLbl val="0"/>
      </c:catAx>
      <c:valAx>
        <c:axId val="81745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07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D82-ECDA-4195-8589-FCFB494E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401-7EC6-41C1-B0B5-ED847BF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1DB-D367-4351-8CB4-D9A98D22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E8C-2D10-430B-B341-71C6878C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006-AAA3-4FA2-9EF6-BDAA681E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FE8-CBF1-49A3-A0B3-3706907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1BB-2027-4D09-A090-C65FB90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08B-25EF-4FC5-851E-8782A62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A4E-90F5-4E0D-8F0E-F8FE7A6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A23-2633-4B56-A6B7-8D25FC4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74C-F35E-4C51-8D07-DD9BDA7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2BE-674A-481E-97A7-934DA03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C2B5C-8002-4677-A2CF-6C0481FD7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